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8.png" ContentType="image/png"/>
  <Override PartName="/ppt/media/image16.png" ContentType="image/png"/>
  <Override PartName="/ppt/media/image23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B4F-A238-47D9-85A3-CD5800D2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8E1-77E2-4204-9997-B90F0DD9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E1A-6915-44CF-AEDD-B13EE4AB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D67-5033-4B8F-AB8B-4F7AC742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B103-EAD8-4192-94C8-A1368E64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698F-7DD0-4E19-8A91-11234321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0B0C-54CD-49F7-A894-064B621F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8DAB-DCB2-41BA-8F87-9A6E8E01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44FC-0E78-4065-8138-988124FA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CAC6-1985-476A-A9E0-45499752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19A6-EF06-4810-A89E-1EA2933F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1DE-ED8D-43FA-8A81-8AC45FE4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6EAD-2C38-4BC4-AF74-DA11619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C1D5-D6DF-4D8F-BAC4-8509310A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87B3-0642-4257-A5F4-1724C083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85AD-0FA8-4CC9-A0AC-8168C206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AA1E-39CF-44ED-A694-135FF64E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BC39-756C-44A4-99DC-33687817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0BC2-3FF5-46C7-8649-67F24117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B2DE-9C62-4820-A142-B9A94EA7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4294-120B-495B-8339-65984FAB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FAB0-2247-451A-BA4E-75551C83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6BB-171A-4187-80BB-394A3A1E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2563-BF5C-403E-8633-5BF29187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5786-0FE8-4F82-ACD0-89A3B030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AA48-C24C-4B0C-BF46-6B3F2BC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BD62-4A41-4980-BAA3-818D989F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D1307-BE9F-4096-9CBB-F3FACD57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0D345-083C-4A84-A57B-53CD1173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7598-E2FE-4BD9-AA2C-69A2052D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AC68-62AE-4333-BACB-BF41A0B3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E102-C29A-439B-B336-7764C069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91021-A7FD-4128-A4C4-9EF74D6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E09-9289-4A2C-9869-92F4D452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F5C5-27F2-4261-89B9-16B9F9D1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66AC4-DCC5-451A-9041-A318F5ED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67C2-9332-455C-8C89-F50F64E4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CB6DC-B9AA-47C5-855E-9F6CDE75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C5EAA-0536-4732-9ED0-C40AC6A8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845A-521E-4336-AA66-711796E1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46E9E-BA2A-4EE6-A6B0-817DBACC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4F05-56B8-4F63-97AF-23203EFE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0C15E-F7D2-45B3-A6AA-67678930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A7F75-E11B-4CED-9210-FD16B8A1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BDB-854E-4042-BBEF-FCD9688E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05298-117A-4147-AC44-3F704B0D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CF36-6E96-4CFC-B435-4A160ACC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B9F03-04DE-4E0F-92D9-33FA51CA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D64E6-1DFB-4D84-9447-C649FFDD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375CB-C2C2-4CE5-BAFA-CC51D175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EDF6D-002A-49EA-AAEE-DA8C8F7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409E7-33E1-4B26-9177-7D93EEA8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1E6C0-145D-478F-8408-D651D472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C696-6646-4236-9516-104EFBEB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88345-4441-44F6-8C08-6CBF7CB2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E0B-A089-4914-ABA9-A1229DAD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8423C-588D-4518-BC54-537F02DF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968A-480D-4375-A736-FC6E9933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6F4C4-8B31-4988-94E3-BF48B827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224E4-333C-40A3-8ABA-D80A7C65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ED9B6-9E46-4980-8FDC-CCAA0727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AD7B3-886E-46EF-87D9-0BF2EC8C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5DC0D-F48E-49EC-B267-410E2599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C848F-1984-4285-8060-6830E043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241B9-CF46-4610-BF27-537A2BBD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7756F-1903-4C7F-B5BA-77432EEF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5B5-6F54-452B-A900-A1DACA3E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89784-2FF1-49C9-AFE3-C2BFC28F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3381B-33F3-42C3-867C-EA1B86E4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315DB-25E1-4652-AAB4-DCC37587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079CF-D0DF-4446-8798-D985D4ED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7472F-A59E-44D4-84A5-0DB38FE5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47C48-2644-4BE1-80C9-3167395B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E153A-16C4-4305-8160-CC5830A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4DE93-978C-49BB-ADB9-BBF1EFFF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1457B-108A-4655-ACE9-67CBD2F0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5F2BE-4E98-430A-B1FC-464240F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68F-3696-47D2-8EF4-EF672F3C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0F647-2966-43CC-9E35-DF1C443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17D72-DB6C-4AAD-9D41-6D568FD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DD2C7-3A4F-4285-8BED-32F0E3E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3A75F-40BA-4B43-B159-E07EAF18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39D31-B143-4A4A-A455-7E9782EE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09D4B-0478-4C7D-9C41-C1695E34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5C3AA-53CC-4DD8-A1C5-49A7C375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1C8EA-7CE2-4E3A-BF87-65D9B718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A297A-D64F-49E1-9A8B-EA113952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ACA05-D427-4FEC-8230-7C11A6F4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3F4-B60B-4046-945D-C895157F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CD789-CFC8-4FE4-8C64-DFB709E2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FC623-1DB0-478B-B25B-C397FBE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D06F3-73BF-40D7-8E13-044353B7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5751D-8B9E-4BC8-9811-650C0B37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19C99-7D89-49A0-9485-B9413F0B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04C00-3EE7-4E90-B6C5-3684FE9A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9E807-98B6-46C5-B213-1F3E522C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67B3-59AB-4467-8A86-EDBC6B3B5C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ED84-FBC1-43E9-AE19-275C8792D2E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4FBD-8F21-4FB7-B132-246B42503D3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A7EB-9732-42DE-A71B-EEE8FCE3B82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EB36-4202-409D-85DE-41B69FB58E8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03BE-CED4-472C-9F90-9B7D3687E40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0C2B-9B5A-46FB-BE98-3016AE5A0B6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3E36-2CEA-4130-888E-26821E54FD0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Presented by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Frank Larkin – FRC272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Lansdale Catholic Robotic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FIRST Boot Camp Seminar – Dec. 11, 2016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arp Infrared I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P2Y0A21YK0F sens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ange – 10cm – 80c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4 inches to 30 inch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st &lt; $15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rectly connec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 analog bumper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turns a number from 1 (far away) to 512 (close up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ad zone from 4” – 0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f detecting very close objects, recess into robot fram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Important: Make sure you purchase wired connector. Saves a lot of headach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oboRio digital 5 volt power will power this devic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Sharp GP2Y0A21YK0F IR Range Sensor - 10cm to 80cm"/>
          <p:cNvPicPr/>
          <p:nvPr/>
        </p:nvPicPr>
        <p:blipFill>
          <a:blip r:embed="rId2"/>
          <a:stretch/>
        </p:blipFill>
        <p:spPr>
          <a:xfrm>
            <a:off x="4876920" y="1495440"/>
            <a:ext cx="38098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295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44440" indent="-171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p Infrared IR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P2Y0A21YK0F sens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15800" indent="-1530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nsmitter / Receiver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the same pack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15800" indent="-1530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ponse show how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vice operat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15800" indent="-1530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y the drop as we get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os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15800" indent="-1530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can we manage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at?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Sharp GP2Y0A21YK0F IR Range Sensor - 10cm to 80cm"/>
          <p:cNvPicPr/>
          <p:nvPr/>
        </p:nvPicPr>
        <p:blipFill>
          <a:blip r:embed="rId2"/>
          <a:stretch/>
        </p:blipFill>
        <p:spPr>
          <a:xfrm>
            <a:off x="4800600" y="1143000"/>
            <a:ext cx="3809880" cy="2619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3"/>
          <a:stretch/>
        </p:blipFill>
        <p:spPr>
          <a:xfrm>
            <a:off x="4572000" y="2743200"/>
            <a:ext cx="4572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Product Image of Sharp GP2D120 IR Sensor"/>
          <p:cNvPicPr/>
          <p:nvPr/>
        </p:nvPicPr>
        <p:blipFill>
          <a:blip r:embed="rId2"/>
          <a:srcRect l="30955" t="34947" r="38101" b="38880"/>
          <a:stretch/>
        </p:blipFill>
        <p:spPr>
          <a:xfrm rot="2145600">
            <a:off x="4955760" y="1604520"/>
            <a:ext cx="2514600" cy="2127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"/>
          <p:cNvPicPr/>
          <p:nvPr/>
        </p:nvPicPr>
        <p:blipFill>
          <a:blip r:embed="rId3"/>
          <a:stretch/>
        </p:blipFill>
        <p:spPr>
          <a:xfrm>
            <a:off x="4952880" y="3962520"/>
            <a:ext cx="2797200" cy="2131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nected to analog-in on analog bump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lack= Grou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d = 5 volt pow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ite – Sig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ust connect to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per connections o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nso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ctivate proce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river gets to within 3 feet of bal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lds joystick button to activa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cess takes over contro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obot rolls forwar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Operator still has X and Y to “help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wo IR sensors on either side of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uction cup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paced ~ a ball width apar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ow value (1-10) indicates not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 fron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igh value indicates ball is the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lide to the side where the ball i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 do you use the numbers you get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ubtract numbers. If difference &gt; 50 we have an object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egative = move left, positive = move right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tact switch in suction cup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dicates we have capt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cess back up as long as button is presse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2010_TargetAcquisition 001_0001.jpg"/>
          <p:cNvPicPr/>
          <p:nvPr/>
        </p:nvPicPr>
        <p:blipFill>
          <a:blip r:embed="rId2"/>
          <a:stretch/>
        </p:blipFill>
        <p:spPr>
          <a:xfrm>
            <a:off x="5537160" y="990720"/>
            <a:ext cx="3225960" cy="2419200"/>
          </a:xfrm>
          <a:prstGeom prst="rect">
            <a:avLst/>
          </a:prstGeom>
          <a:ln w="0">
            <a:noFill/>
          </a:ln>
        </p:spPr>
      </p:pic>
      <p:sp>
        <p:nvSpPr>
          <p:cNvPr id="432" name="Up Arrow 4"/>
          <p:cNvSpPr/>
          <p:nvPr/>
        </p:nvSpPr>
        <p:spPr>
          <a:xfrm>
            <a:off x="6400800" y="2438280"/>
            <a:ext cx="228600" cy="1143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Up Arrow 5"/>
          <p:cNvSpPr/>
          <p:nvPr/>
        </p:nvSpPr>
        <p:spPr>
          <a:xfrm>
            <a:off x="7924680" y="2438280"/>
            <a:ext cx="228600" cy="1143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5562720" y="35434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image to play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rom LC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295280"/>
            <a:ext cx="5410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to create automated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wer operatio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ring Potentiomete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ower goes up pulls out s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at turns a barr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at turns a shaf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at turns a potentiomet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at sends us a numb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26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at we map to heigh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obot knows how high or low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8"/>
          <p:cNvSpPr/>
          <p:nvPr/>
        </p:nvSpPr>
        <p:spPr>
          <a:xfrm>
            <a:off x="6248520" y="1523880"/>
            <a:ext cx="2133360" cy="18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Straight Arrow Connector 20"/>
          <p:cNvCxnSpPr/>
          <p:nvPr/>
        </p:nvCxnSpPr>
        <p:spPr>
          <a:xfrm flipH="1" flipV="1">
            <a:off x="6248160" y="761400"/>
            <a:ext cx="381600" cy="190548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439" name="Oval 9"/>
          <p:cNvSpPr/>
          <p:nvPr/>
        </p:nvSpPr>
        <p:spPr>
          <a:xfrm>
            <a:off x="6553080" y="1676520"/>
            <a:ext cx="1524240" cy="1523880"/>
          </a:xfrm>
          <a:prstGeom prst="ellipse">
            <a:avLst/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6900840" y="2046240"/>
            <a:ext cx="838080" cy="83808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ircular Arrow 18"/>
          <p:cNvSpPr/>
          <p:nvPr/>
        </p:nvSpPr>
        <p:spPr>
          <a:xfrm>
            <a:off x="7010280" y="2133720"/>
            <a:ext cx="609840" cy="761760"/>
          </a:xfrm>
          <a:custGeom>
            <a:avLst/>
            <a:gdLst/>
            <a:ahLst/>
            <a:rect l="l" t="t" r="r" b="b"/>
            <a:pathLst>
              <a:path w="609600" h="762000">
                <a:moveTo>
                  <a:pt x="38100" y="381000"/>
                </a:moveTo>
                <a:cubicBezTo>
                  <a:pt x="38100" y="215669"/>
                  <a:pt x="129857" y="73880"/>
                  <a:pt x="256304" y="43817"/>
                </a:cubicBezTo>
                <a:cubicBezTo>
                  <a:pt x="396885" y="10393"/>
                  <a:pt x="532960" y="125436"/>
                  <a:pt x="564801" y="304631"/>
                </a:cubicBezTo>
                <a:lnTo>
                  <a:pt x="602308" y="304630"/>
                </a:lnTo>
                <a:lnTo>
                  <a:pt x="533400" y="381000"/>
                </a:lnTo>
                <a:lnTo>
                  <a:pt x="449908" y="304630"/>
                </a:lnTo>
                <a:lnTo>
                  <a:pt x="487323" y="304630"/>
                </a:lnTo>
                <a:cubicBezTo>
                  <a:pt x="457545" y="165138"/>
                  <a:pt x="353364" y="84854"/>
                  <a:pt x="253252" y="124249"/>
                </a:cubicBezTo>
                <a:cubicBezTo>
                  <a:pt x="171079" y="156585"/>
                  <a:pt x="114300" y="261499"/>
                  <a:pt x="114300" y="380999"/>
                </a:cubicBezTo>
                <a:lnTo>
                  <a:pt x="38100" y="381000"/>
                </a:lnTo>
                <a:close/>
              </a:path>
            </a:pathLst>
          </a:custGeom>
          <a:solidFill>
            <a:srgbClr val="000000"/>
          </a:solidFill>
          <a:ln w="5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1"/>
          <p:cNvSpPr/>
          <p:nvPr/>
        </p:nvSpPr>
        <p:spPr>
          <a:xfrm>
            <a:off x="6248520" y="3733920"/>
            <a:ext cx="2133360" cy="15238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2"/>
          <p:cNvSpPr/>
          <p:nvPr/>
        </p:nvSpPr>
        <p:spPr>
          <a:xfrm>
            <a:off x="6553080" y="3962520"/>
            <a:ext cx="1524240" cy="1143000"/>
          </a:xfrm>
          <a:prstGeom prst="rect">
            <a:avLst/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3"/>
          <p:cNvSpPr/>
          <p:nvPr/>
        </p:nvSpPr>
        <p:spPr>
          <a:xfrm>
            <a:off x="6858000" y="5486400"/>
            <a:ext cx="871560" cy="609480"/>
          </a:xfrm>
          <a:prstGeom prst="rect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25"/>
          <p:cNvSpPr/>
          <p:nvPr/>
        </p:nvSpPr>
        <p:spPr>
          <a:xfrm>
            <a:off x="7315200" y="3581280"/>
            <a:ext cx="0" cy="2667240"/>
          </a:xfrm>
          <a:prstGeom prst="line">
            <a:avLst/>
          </a:prstGeom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295280"/>
            <a:ext cx="5410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olu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perator tells tower to go to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loo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en tower below certai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oint “wrist” drop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en down “finger” drop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mpletely automa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ptur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Operator pulls and holds trigg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oftware runs autonomous proc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icks up fing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aises tow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icks up wris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aises to hold positio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osition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Operator presses and hold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utto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ower goes to that positio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5486400" y="304920"/>
            <a:ext cx="3386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tore joystick inputs in variab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reate separate variables to hold what joystick position and buttons are calling for. True “Fly by Wire”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xample: Joystick X, Y and buttons are stored in variab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cide what to do before setting outpu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se function to decide if what to do based upon sensors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xample: If we are in deploy mode (button pressed)…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anner sensor tells you a tot is there. Push off only 1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No tote push the back on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et Outpu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t outputs based upon variables that may have been cooked by other cod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536400" y="251784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y 1 – What do we need to automat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can we make the driver’s job easier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rchase sensors 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y teams know the secr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t hold of sensors. They are cheap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peri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allenge yoursel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ok at old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C 2010 code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ttp://www.frc272.com/seminar/Archive/LC2010_robot_code.zip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C 2011 code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ttp://www.frc272.com/seminar/Archive/LC2011_robot_code.zip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Questions – pafwl@aol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the FIRST competition an awesome robot will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ither use C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rb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U or S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ilic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U senso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lp driver or operator by having several automated systems in place to handle competition work load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ost Importantly: Provide good visual feedback to tell operator what is happening. Preferably heads up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at is a sensor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 device that detects and communicates some aspect of your enviro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You process it so it makes sense in your contex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You then understand hat it mea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n you do something with 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man sequence…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tect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yes see light in front of you, tells Bra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rocess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Brain sees a familiar shape. Oh it’s Mark from 3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period physi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Understand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Brain reminds you that you promised to go to Prom with him but you are just accepted invite from Jim!!!!!!!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ction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Brain tells you not to make eye contact, look down and walk, do not run, away quickly but gracefully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ultiple choices to mix and mat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xis Camera 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2 dimensional - can give you weight, size and X and Y for target location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Lucida Sans Unicode"/>
              </a:rPr>
              <a:t>Can be slow as roboRIO cycles are used to determine target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fra red (IR) Proximity senso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an be purchased to cover various distances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Detects reflected light, broad or narrow beam, inexpensiv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ltra-Sonic Range find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an be purchased with various beam width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an interfere with each other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ncod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urn rotation into position control or distance covered,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ome in many flav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any vendo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ww.robotshop.com    www.andymark.com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ww.acroname.com     www.sparkfun.co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C 2007 Tube Detector (C++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s button to arm autom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rive into pile of tub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R Sensor detected presence of close Tub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utomation engaged Claw to capture Tub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river station showed red when close, green on capt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C 2010 Ball Detector (C++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s and hold button starts automation. Robot moves forwar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eft / Right IR Sensors detected object and Steered Robot to objec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witch in suction cup detected Ball contac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26"/>
              </a:spcBef>
              <a:buClr>
                <a:srgbClr val="da1f2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riggered robot to back up (visual feedback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C 2011 Tube Tower (C++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obot knew how high the tower was and adjusted automatically. I button for each heigh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utonomous mode “knew” how far it was from the wall to know when to drop tub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C 2015 Processes (Java/Robot Builder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ower knew its position. Several stop points for autom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edge knew its position. Several pre-programmed stop points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R and Banner sensors detected totes for blended operatio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ll switch sensors plu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into the digital-in, analo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to analo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White – Signal (SIG, 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Red – Center 5 volt pow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to power devic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(not usually need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for switche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(PWR, 5V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lack – Ground (GND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me devices need more power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nnect power (red &amp; black)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power panel, white to Digital In    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2"/>
          <a:stretch/>
        </p:blipFill>
        <p:spPr>
          <a:xfrm>
            <a:off x="3962520" y="1219320"/>
            <a:ext cx="4876560" cy="4475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888840" y="5075280"/>
            <a:ext cx="2921040" cy="136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9"/>
          <p:cNvSpPr/>
          <p:nvPr/>
        </p:nvSpPr>
        <p:spPr>
          <a:xfrm>
            <a:off x="3962520" y="58672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(on/off)          Analog (range in vol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11"/>
          <p:cNvCxnSpPr/>
          <p:nvPr/>
        </p:nvCxnSpPr>
        <p:spPr>
          <a:xfrm flipH="1" flipV="1">
            <a:off x="4876200" y="5028840"/>
            <a:ext cx="153000" cy="729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8" name="Straight Arrow Connector 13"/>
          <p:cNvCxnSpPr/>
          <p:nvPr/>
        </p:nvCxnSpPr>
        <p:spPr>
          <a:xfrm flipV="1">
            <a:off x="6858000" y="5333400"/>
            <a:ext cx="7668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0663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ll switches have effectively 2 positions on or off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witches have a normal state and an activated sta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There are usually connectors for normally open (no) or normally closed (nc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witch usually allows you to select the state depending where you connect the wire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Which is better?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15760" indent="-217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NO is easier to understand. Press switch make contact. If wire broken switch is useless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15760" indent="-217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NC means when Not Pressed you have a circuit. When pressed the circuit opens.  If you boot up robot and switch appears activated, you may have a broken wire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438280" y="3505320"/>
            <a:ext cx="1067040" cy="8380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"/>
          <p:cNvSpPr/>
          <p:nvPr/>
        </p:nvSpPr>
        <p:spPr>
          <a:xfrm flipV="1">
            <a:off x="2666880" y="37335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8"/>
          <p:cNvSpPr/>
          <p:nvPr/>
        </p:nvSpPr>
        <p:spPr>
          <a:xfrm flipH="1">
            <a:off x="2286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0"/>
          <p:cNvSpPr/>
          <p:nvPr/>
        </p:nvSpPr>
        <p:spPr>
          <a:xfrm flipV="1">
            <a:off x="3200400" y="3962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3030840" y="312408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024720" y="449568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1906920" y="377208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2209320" y="274320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5486400" y="3505320"/>
            <a:ext cx="1066680" cy="8380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>
            <a:off x="5715000" y="388620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7"/>
          <p:cNvSpPr/>
          <p:nvPr/>
        </p:nvSpPr>
        <p:spPr>
          <a:xfrm flipH="1">
            <a:off x="53341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62485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9"/>
          <p:cNvSpPr/>
          <p:nvPr/>
        </p:nvSpPr>
        <p:spPr>
          <a:xfrm flipV="1">
            <a:off x="6248520" y="3962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6078960" y="312408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6072840" y="449568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4955040" y="376236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5484960" y="27432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e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2247840" y="4610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6"/>
          <p:cNvSpPr/>
          <p:nvPr/>
        </p:nvSpPr>
        <p:spPr>
          <a:xfrm>
            <a:off x="1670400" y="44067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gital White wir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ign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7"/>
          <p:cNvSpPr/>
          <p:nvPr/>
        </p:nvSpPr>
        <p:spPr>
          <a:xfrm>
            <a:off x="1746360" y="3048120"/>
            <a:ext cx="105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gital Black wi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8"/>
          <p:cNvSpPr/>
          <p:nvPr/>
        </p:nvSpPr>
        <p:spPr>
          <a:xfrm>
            <a:off x="209556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67816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653880" y="3048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side fo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sses d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4047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ave emitter and detector in same packag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ually have sensitivity control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Use retro reflective tape placed on opposit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ide of target. Target breaks beam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ill usually have 4 wir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Blue – 10 – 30 volt power. Connects to the circu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breaker panel. Yes you need a circuit breaker!!!!!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Brown – Grou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White – NO (normally open) switch posi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Black – NC (normally closed) switch posi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You need to solder the wires from the sensor to the correct wires on the switch. Test without soldering first to ensure you are correct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avorite: www.bannerengineering.c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2"/>
          <a:stretch/>
        </p:blipFill>
        <p:spPr>
          <a:xfrm>
            <a:off x="6858000" y="1387440"/>
            <a:ext cx="18954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22:00:41Z</dcterms:created>
  <dc:creator>Frank Larkin</dc:creator>
  <dc:description/>
  <dc:language>en-US</dc:language>
  <cp:lastModifiedBy>Larkin, Francis</cp:lastModifiedBy>
  <dcterms:modified xsi:type="dcterms:W3CDTF">2015-12-12T03:20:30Z</dcterms:modified>
  <cp:revision>60</cp:revision>
  <dc:subject/>
  <dc:title>Target Acquisition and Capture</dc:title>
</cp:coreProperties>
</file>