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png" ContentType="image/png"/>
  <Override PartName="/ppt/media/image16.png" ContentType="image/png"/>
  <Override PartName="/ppt/media/image23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53E-9F89-43CF-919C-367A98EC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FBB-E428-41D1-9852-BE1E86AA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637-BB5D-45A9-AD09-FCD01C56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8B0-BBA8-4D9C-8ABE-FF2371D1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5758-EB4A-48AA-A6FB-B177D54E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BC4B-E07C-4A0B-81B3-EEF5367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F2D4-68E3-4B2F-83AC-2744107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50E2-4D69-4C9E-AE8A-17CAE1BA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D76-80CC-4B91-B085-62788D62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E18-3ACB-4524-A58B-C9B863E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893C-F9FE-45F7-A6DC-1EC5C54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C81-B7DD-43FC-851B-B512D61F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E905-F254-44FD-85E8-18E6703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6ADB-42A3-4FFE-892F-096A4189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EF45-E82C-48B1-B339-CF6B2BA8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88E7-39D0-4CA9-8959-AA8BEF82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4CF-8E63-4A06-80C2-5E68079E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AFAA-B148-4093-825F-20D8DC6B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3B86-5EF1-4F15-A6FD-FB1DF345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299C-528F-4DE9-B58C-2B507318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4D2D-138C-4057-8460-AEAED9FA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A4D5-BBF7-44AD-84D7-24BD7A1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B9A-9301-48F3-A88D-E881B881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992EF-8341-4E18-A413-213341C8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A4B5-9EF4-40F7-8B3D-ECFBA12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A2F6-0BA6-417D-8993-09E7BC59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A4EF-1855-493C-97E5-1E577283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2490-90AF-4AB3-AE01-A2ADDE17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C70A-4B11-4152-9161-A0C0BE14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49AB-ED87-45A0-B299-E53E44E7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2AE9-A452-496B-97A7-7AA60A8F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4AF0-34C9-4E21-BB5A-37D805E9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65BA-B4A2-4BF8-96B9-EE84D5A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386-1200-4884-A4A1-F811F3B8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C455-5671-4F9A-95C6-979326C5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20913-2E65-40E6-8F34-3207A70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0B26-5A85-46EC-8AF7-2213881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C6A0-0CFC-46D8-A213-B0E537A3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7DC3-1DD5-430E-A208-8B5F8D38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6663-6BFF-44B4-8179-82283AA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5242-E0BB-4039-8120-65D4165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DC99-4AB6-452C-8630-4E072C97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AE30-DFE3-4518-8A5B-4FCF3C74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EE88-382E-4787-B1C8-E1A768D8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481-869E-42DF-B897-92A60F28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89A2-50BF-4FBA-8A43-CA265AB9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19FC3-12DD-4ECB-A00D-4495602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0921-2DC3-476B-9811-581ADC57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DE49-16D8-480F-A860-9142986B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0F85-1489-4A78-8F94-E21F1E9A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469E-177B-4BF7-81AE-F37E230D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4201-D196-4835-8A1E-FC447D8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D7A26-2671-4DEA-A8A3-41AADA73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575F-DCA3-44D5-A3B9-F9134D9E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083D-B6FE-42A9-92FE-622B4F52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5FA-8E87-4F6A-9B92-A461EBD8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90C1-4E4C-4618-A4FA-E1B24686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335A-5AFE-41F9-A94B-D7D84D63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8FA2-4746-4F73-BA8C-9C1047C7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D20D6-924B-45DD-8094-9BD1DB24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C8786-0A0C-4E90-862B-9C2B76FA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BCEA-CFF8-4E49-8183-25B818D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DA8B-762D-4FF5-8BDD-A0CD5D7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CECF-DFD3-49FC-A234-27BC69C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1C60-EE20-411C-86ED-B887874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2B02-2837-4FF5-92BA-54F7841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5CA-DC4F-4384-BB0E-CFA93A36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82F84-8F94-4CF7-8BE5-B6736909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6B71E-7E22-4BE8-B8B4-8CB81CC5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A442-B19D-4149-AE21-FF315931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C738-74CB-41C3-9132-FBBF30DF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F4C5F-59B1-4672-802D-897F5E6B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FDD0-106D-41FA-B896-6AC718C8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CC435-B19C-49DF-98DE-0F0F39BE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100D3-3417-44E7-8BBB-02C8B8CB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511DC-E189-4E34-94E7-3A5F8C1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0FDF-98B4-4A96-BC2D-841D0DE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5B2-8EB5-4F87-A95A-90C74C9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26C1-A63B-4D8E-B9BD-F47D5AF5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14C20-0BFA-4B58-ADF3-9EE582F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74D6-1D24-4BEF-AE92-24C96713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AC64F-78C3-4540-B9AD-6D87E7B6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E0B7D-11F5-400F-860E-C49E69BA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55B85-61AC-4248-83A0-8946BC03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CA7C-51C9-403C-AFDF-116B7350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2F4B-8509-47AA-9CF2-F937A5C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5BDA7-09C9-469E-9503-B3E7340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90DF9-4E92-42CD-9F62-4C4AE3DF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830-D6AF-40DA-9C40-34F66ED6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40CE-4E48-4B76-81F2-B8A4C280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43BFE-C038-48DA-9798-6E0B6CE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05BE-F82D-4062-9989-D96D998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C3148-F36E-4D8D-8562-D5E4BE8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395DD-4F78-46FF-883F-79117B76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E6595-E0E1-4926-AAFB-F8140C6E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DFF3D-8DA0-47BD-B034-8BFE578F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C84-18E3-497B-AD65-047593573E9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857-43CD-43EA-8AA3-F26AB5BB0AC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8477-34AD-47DF-B02F-30883CBFB25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1B3-2450-47B2-9236-86EFCC5916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979D-B158-48CC-9D2A-BFD140DD76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8A30-817C-40FC-91AF-081EF21750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518E-9656-4959-8024-731444856D1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DA8C-AB75-4FF7-8B99-53344315057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Presented by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Frank Larkin – FRC272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Lansdale Catholic Robotic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FIRST Boot Camp Seminar – Dec. 11, 201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arp Infrared I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P2Y0A21YK0F sens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ange – 10cm – 80c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4 inches to 30 inch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st &lt; $15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rectly connec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analog bumper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turns a number from 1 (far away) to 512 (close up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ad zone from 4” – 0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detecting very close objects, recess into robot fram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Important: Make sure you purchase wired connector. Saves a lot of headach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oboRio digital 5 volt power will power this devic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Sharp GP2Y0A21YK0F IR Range Sensor - 10cm to 80cm"/>
          <p:cNvPicPr/>
          <p:nvPr/>
        </p:nvPicPr>
        <p:blipFill>
          <a:blip r:embed="rId2"/>
          <a:stretch/>
        </p:blipFill>
        <p:spPr>
          <a:xfrm>
            <a:off x="4876920" y="149544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295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-171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p Infrared IR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P2Y0A21YK0F sen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mitter / Receiver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the same pack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ponse show how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vice opera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y the drop as we ge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os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can we manag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at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Sharp GP2Y0A21YK0F IR Range Sensor - 10cm to 80cm"/>
          <p:cNvPicPr/>
          <p:nvPr/>
        </p:nvPicPr>
        <p:blipFill>
          <a:blip r:embed="rId2"/>
          <a:stretch/>
        </p:blipFill>
        <p:spPr>
          <a:xfrm>
            <a:off x="4800600" y="11430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4572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roduct Image of Sharp GP2D120 IR Sensor"/>
          <p:cNvPicPr/>
          <p:nvPr/>
        </p:nvPicPr>
        <p:blipFill>
          <a:blip r:embed="rId2"/>
          <a:srcRect l="30955" t="34947" r="38101" b="38880"/>
          <a:stretch/>
        </p:blipFill>
        <p:spPr>
          <a:xfrm rot="2145600">
            <a:off x="4955760" y="1604520"/>
            <a:ext cx="2514600" cy="2127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3"/>
          <a:stretch/>
        </p:blipFill>
        <p:spPr>
          <a:xfrm>
            <a:off x="4952880" y="3962520"/>
            <a:ext cx="2797200" cy="213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nected to analog-in on analog bump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lack= Gr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d = 5 volt pow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ite – Sig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ust connect to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per connections 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nso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ctivate proce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river gets to within 3 feet of bal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lds joystick button to activ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cess takes over contro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obot rolls forwar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perator still has X and Y to “help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wo IR sensors on either side of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uction cup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paced ~ a ball width apar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w value (1-10) indicates not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fro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gh value indicates ball is t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lide to the side where the ball i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do you use the numbers you get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ubtract numbers. If difference &gt; 50 we have an object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egative = move left, positive = move right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tact switch in suction cup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dicates we have cap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cess back up as long as button is presse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2010_TargetAcquisition 001_0001.jpg"/>
          <p:cNvPicPr/>
          <p:nvPr/>
        </p:nvPicPr>
        <p:blipFill>
          <a:blip r:embed="rId2"/>
          <a:stretch/>
        </p:blipFill>
        <p:spPr>
          <a:xfrm>
            <a:off x="5537160" y="990720"/>
            <a:ext cx="3225960" cy="2419200"/>
          </a:xfrm>
          <a:prstGeom prst="rect">
            <a:avLst/>
          </a:prstGeom>
          <a:ln w="0">
            <a:noFill/>
          </a:ln>
        </p:spPr>
      </p:pic>
      <p:sp>
        <p:nvSpPr>
          <p:cNvPr id="432" name="Up Arrow 4"/>
          <p:cNvSpPr/>
          <p:nvPr/>
        </p:nvSpPr>
        <p:spPr>
          <a:xfrm>
            <a:off x="6400800" y="2438280"/>
            <a:ext cx="228600" cy="1143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Up Arrow 5"/>
          <p:cNvSpPr/>
          <p:nvPr/>
        </p:nvSpPr>
        <p:spPr>
          <a:xfrm>
            <a:off x="7924680" y="2438280"/>
            <a:ext cx="228600" cy="1143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5562720" y="3543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image to play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rom L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295280"/>
            <a:ext cx="5410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to create automated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wer operatio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ring Potentiome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wer goes up pulls out s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turns a barr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turns a shaf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turns a potentiomet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sends us a numb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we map to heigh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obot knows how high or low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8"/>
          <p:cNvSpPr/>
          <p:nvPr/>
        </p:nvSpPr>
        <p:spPr>
          <a:xfrm>
            <a:off x="6248520" y="1523880"/>
            <a:ext cx="2133360" cy="18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Straight Arrow Connector 20"/>
          <p:cNvCxnSpPr/>
          <p:nvPr/>
        </p:nvCxnSpPr>
        <p:spPr>
          <a:xfrm flipH="1" flipV="1">
            <a:off x="6248160" y="761400"/>
            <a:ext cx="381600" cy="19054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439" name="Oval 9"/>
          <p:cNvSpPr/>
          <p:nvPr/>
        </p:nvSpPr>
        <p:spPr>
          <a:xfrm>
            <a:off x="6553080" y="1676520"/>
            <a:ext cx="1524240" cy="152388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6900840" y="2046240"/>
            <a:ext cx="838080" cy="83808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ircular Arrow 18"/>
          <p:cNvSpPr/>
          <p:nvPr/>
        </p:nvSpPr>
        <p:spPr>
          <a:xfrm>
            <a:off x="7010280" y="2133720"/>
            <a:ext cx="609840" cy="761760"/>
          </a:xfrm>
          <a:custGeom>
            <a:avLst/>
            <a:gdLst/>
            <a:ahLst/>
            <a:rect l="l" t="t" r="r" b="b"/>
            <a:pathLst>
              <a:path w="609600" h="762000">
                <a:moveTo>
                  <a:pt x="38100" y="381000"/>
                </a:moveTo>
                <a:cubicBezTo>
                  <a:pt x="38100" y="215669"/>
                  <a:pt x="129857" y="73880"/>
                  <a:pt x="256304" y="43817"/>
                </a:cubicBezTo>
                <a:cubicBezTo>
                  <a:pt x="396885" y="10393"/>
                  <a:pt x="532960" y="125436"/>
                  <a:pt x="564801" y="304631"/>
                </a:cubicBezTo>
                <a:lnTo>
                  <a:pt x="602308" y="304630"/>
                </a:lnTo>
                <a:lnTo>
                  <a:pt x="533400" y="381000"/>
                </a:lnTo>
                <a:lnTo>
                  <a:pt x="449908" y="304630"/>
                </a:lnTo>
                <a:lnTo>
                  <a:pt x="487323" y="304630"/>
                </a:lnTo>
                <a:cubicBezTo>
                  <a:pt x="457545" y="165138"/>
                  <a:pt x="353364" y="84854"/>
                  <a:pt x="253252" y="124249"/>
                </a:cubicBezTo>
                <a:cubicBezTo>
                  <a:pt x="171079" y="156585"/>
                  <a:pt x="114300" y="261499"/>
                  <a:pt x="114300" y="380999"/>
                </a:cubicBezTo>
                <a:lnTo>
                  <a:pt x="38100" y="381000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1"/>
          <p:cNvSpPr/>
          <p:nvPr/>
        </p:nvSpPr>
        <p:spPr>
          <a:xfrm>
            <a:off x="6248520" y="3733920"/>
            <a:ext cx="2133360" cy="15238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2"/>
          <p:cNvSpPr/>
          <p:nvPr/>
        </p:nvSpPr>
        <p:spPr>
          <a:xfrm>
            <a:off x="6553080" y="3962520"/>
            <a:ext cx="1524240" cy="1143000"/>
          </a:xfrm>
          <a:prstGeom prst="rect">
            <a:avLst/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3"/>
          <p:cNvSpPr/>
          <p:nvPr/>
        </p:nvSpPr>
        <p:spPr>
          <a:xfrm>
            <a:off x="6858000" y="5486400"/>
            <a:ext cx="871560" cy="60948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25"/>
          <p:cNvSpPr/>
          <p:nvPr/>
        </p:nvSpPr>
        <p:spPr>
          <a:xfrm>
            <a:off x="7315200" y="3581280"/>
            <a:ext cx="0" cy="26672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295280"/>
            <a:ext cx="5410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lu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rator tells tower to go to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loo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n tower below certai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oint “wrist” drop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n down “finger” drop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letely automa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ptur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perator pulls and holds trigg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oftware runs autonomous proc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icks up fing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aises tow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icks up wris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aises to hold positi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ositio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perator presses and hold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utt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ower goes to that positi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486400" y="304920"/>
            <a:ext cx="3386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ore joystick inputs in variab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reate separate variables to hold what joystick position and buttons are calling for. True “Fly by Wire”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: Joystick X, Y and buttons are stored in variab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cide what to do before setting outpu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 function to decide if what to do based upon sensors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: If we are in deploy mode (button pressed)…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anner sensor tells you a tot is there. Push off only 1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No tote push the back on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et Outpu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t outputs based upon variables that may have been cooked by other cod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536400" y="251784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y 1 – What do we need to automat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can we make the driver’s job easier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rchase sensors 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y teams know the secr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t hold of sensors. They are cheap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peri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llenge yoursel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ok at old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C 2010 code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.frc272.com/seminar/Archive/LC2010_robot_code.zip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C 2011 code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.frc272.com/seminar/Archive/LC2011_robot_code.zip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uestions – pafwl@aol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 FIRST competition an awesome robot will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ither use C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rb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 or S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ilic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 senso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 driver or operator by having several automated systems in place to handle competition work load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st Importantly: Provide good visual feedback to tell operator what is happening. Preferably heads up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is a sensor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device that detects and communicates some aspect of your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ou process it so it makes sense in your contex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ou then understand hat it mea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n you do something with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 sequence…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tect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yes see light in front of you, tells Br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rocess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rain sees a familiar shape. Oh it’s Mark from 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period phys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Understand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rain reminds you that you promised to go to Prom with him but you are just accepted invite from Jim!!!!!!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ctio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rain tells you not to make eye contact, look down and walk, do not run, away quickly but gracefull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ultiple choices to mix and mat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xis Camera 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2 dimensional - can give you weight, size and X and Y for target location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Lucida Sans Unicode"/>
              </a:rPr>
              <a:t>Can be slow as roboRIO cycles are used to determine target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fra red (IR) Proximity senso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be purchased to cover various distance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tects reflected light, broad or narrow beam, inexpensiv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ltra-Sonic Range find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be purchased with various beam width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interfere with each other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ncod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urn rotation into position control or distance covered,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ome in many flav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ny vendo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ww.robotshop.com    www.andymark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ww.acroname.com     www.sparkfun.co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07 Tube Detector (C++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s button to arm auto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rive into pile of tub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R Sensor detected presence of close Tub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utomation engaged Claw to capture Tub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river station showed red when close, green on capt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10 Ball Detector (C++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s and hold button starts automation. Robot moves forwar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eft / Right IR Sensors detected object and Steered Robot to obje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witch in suction cup detected Ball conta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riggered robot to back up (visual feedback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11 Tube Tower (C++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obot knew how high the tower was and adjusted automatically. I button for each heigh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utonomous mode “knew” how far it was from the wall to know when to drop tub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15 Processes (Java/Robot Builder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wer knew its position. Several stop points for auto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edge knew its position. Several pre-programmed stop points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R and Banner sensors detected totes for blended operatio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ll switch sensors plu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into the digital-in, analo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to analo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White – Signal (SIG, 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d – Center 5 volt pow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to power devic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(not usually need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for switche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(PWR, 5V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lack – Ground (GND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me devices need more power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nect power (red &amp; black)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ower panel, white to Digital In 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2"/>
          <a:stretch/>
        </p:blipFill>
        <p:spPr>
          <a:xfrm>
            <a:off x="3962520" y="1219320"/>
            <a:ext cx="4876560" cy="4475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888840" y="5075280"/>
            <a:ext cx="2921040" cy="136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9"/>
          <p:cNvSpPr/>
          <p:nvPr/>
        </p:nvSpPr>
        <p:spPr>
          <a:xfrm>
            <a:off x="3962520" y="58672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(on/off)          Analog (range in vol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11"/>
          <p:cNvCxnSpPr/>
          <p:nvPr/>
        </p:nvCxnSpPr>
        <p:spPr>
          <a:xfrm flipH="1" flipV="1">
            <a:off x="4876200" y="5028840"/>
            <a:ext cx="153000" cy="729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8" name="Straight Arrow Connector 13"/>
          <p:cNvCxnSpPr/>
          <p:nvPr/>
        </p:nvCxnSpPr>
        <p:spPr>
          <a:xfrm flipV="1">
            <a:off x="6858000" y="5333400"/>
            <a:ext cx="7668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0663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ll switches have effectively 2 positions on or of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witches have a normal state and an activated st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There are usually connectors for normally open (no) or normally closed (nc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witch usually allows you to select the state depending where you connect the wire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ich is better?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15760" indent="-217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NO is easier to understand. Press switch make contact. If wire broken switch is useless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15760" indent="-217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NC means when Not Pressed you have a circuit. When pressed the circuit opens.  If you boot up robot and switch appears activated, you may have a broken wir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438280" y="3505320"/>
            <a:ext cx="1067040" cy="8380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"/>
          <p:cNvSpPr/>
          <p:nvPr/>
        </p:nvSpPr>
        <p:spPr>
          <a:xfrm flipV="1">
            <a:off x="2666880" y="37335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"/>
          <p:cNvSpPr/>
          <p:nvPr/>
        </p:nvSpPr>
        <p:spPr>
          <a:xfrm flipH="1">
            <a:off x="2286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0"/>
          <p:cNvSpPr/>
          <p:nvPr/>
        </p:nvSpPr>
        <p:spPr>
          <a:xfrm flipV="1">
            <a:off x="3200400" y="3962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3030840" y="31240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24720" y="44956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1906920" y="37720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2209320" y="27432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5486400" y="3505320"/>
            <a:ext cx="1066680" cy="8380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>
            <a:off x="5715000" y="38862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 flipH="1">
            <a:off x="53341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6248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9"/>
          <p:cNvSpPr/>
          <p:nvPr/>
        </p:nvSpPr>
        <p:spPr>
          <a:xfrm flipV="1">
            <a:off x="6248520" y="3962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6078960" y="31240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6072840" y="44956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955040" y="376236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484960" y="27432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2247840" y="461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1670400" y="44067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 White wir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ign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1746360" y="3048120"/>
            <a:ext cx="105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 Black wi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8"/>
          <p:cNvSpPr/>
          <p:nvPr/>
        </p:nvSpPr>
        <p:spPr>
          <a:xfrm>
            <a:off x="209556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67816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653880" y="3048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side fo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sses 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4047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ave emitter and detector in same pack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ually have sensitivity control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se retro reflective tape placed on opposi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ide of target. Target breaks beam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ill usually have 4 wir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lue – 10 – 30 volt power. Connects to the circu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reaker panel. Yes you need a circuit breaker!!!!!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rown – Grou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hite – NO (normally open) switch posi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lack – NC (normally closed) switch posi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You need to solder the wires from the sensor to the correct wires on the switch. Test without soldering first to ensure you are correct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avorite: www.bannerengineering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2"/>
          <a:stretch/>
        </p:blipFill>
        <p:spPr>
          <a:xfrm>
            <a:off x="6858000" y="1387440"/>
            <a:ext cx="1895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22:00:41Z</dcterms:created>
  <dc:creator>Frank Larkin</dc:creator>
  <dc:description/>
  <dc:language>en-US</dc:language>
  <cp:lastModifiedBy>Larkin, Francis</cp:lastModifiedBy>
  <dcterms:modified xsi:type="dcterms:W3CDTF">2015-12-12T03:20:30Z</dcterms:modified>
  <cp:revision>60</cp:revision>
  <dc:subject/>
  <dc:title>Target Acquisition and Capture</dc:title>
</cp:coreProperties>
</file>